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F6A-4A83-4848-B59F-993A34A5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C21-15D9-4438-AB18-79CBEAD3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82FA8A-84BF-4D51-9E51-8D07F084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F02E68-4EA9-459C-B901-9401F39E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CF5016-0558-4004-BFC3-F0A5AD6F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635A5D-1FA8-479E-A6FE-72735BEF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46D8F2-22F4-4709-8774-32471FE4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F118F7-2157-4D9B-906A-799A292E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C138F5-31F4-4566-8018-B4D46566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119459-311F-4F92-87DB-5A7D6B5C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DA518E-A8BA-4DA6-8A6D-F17D550F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4EC-AC20-4DC0-ACD6-E39AC16A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D8C-E695-4390-90E2-9107CB8C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E7288-57D2-4801-9D62-FC1F951E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127A5-10D9-4B3B-B8B1-E2F0899E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3507A-AD51-4356-9FD2-ECB6C737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732B1-D5E5-4BD9-B729-9AC7B4F0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F1B96-523C-4603-9443-06B3BC4E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E4DA0-C2F5-4A18-B02B-2E34F5E2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5E9FC-8B72-4BA6-ACCE-49D1F406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8A6-EEE2-4256-A76D-202D1AE1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EAC8D-A06D-4789-A12D-AD116CF7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B7D72-29DE-4A5C-985E-348B11F8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367D8-645F-406D-AC5F-92CEF18E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05C05-065A-4BFD-B3D2-56FCE704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0896A-1088-4AB7-9331-7C39F703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D1284-FCE8-4546-BAD2-D841D3F5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4DC93-730D-45DC-9F44-4E57AD0C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F800C-B064-418F-821C-C48E8EF1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2715-F062-4E01-85A3-3D1F53A4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ED694-F754-48B7-82AA-83780B3E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135-66D6-4FBF-85F4-E37DD7C3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1A9C2-D888-4A32-A46E-FA2E4E44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0322D-6056-4999-B979-C04C42F5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C5E24-E734-40AB-B8DE-67A7DE5D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B341B-2B41-4ED8-A004-3F9CB804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F905E-7D05-4336-98A5-18B0B814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82D5F-6B08-45EE-9AD3-B7ED7497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3001B-8503-48E9-B10E-03475E41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6B8CA-BC94-4448-BC00-2936DB93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084AB1-0E27-46C7-A89D-5593E5F7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F9100-BAF8-457E-BE0D-43654E57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357-03F7-49C8-97D3-F39AA0CC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6EA21B-44B0-4F66-846E-A02BC90E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117C6D-BF1B-46D3-B527-72D7780D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04CED-9192-40D4-BDF8-EC864C54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FF4CD-403C-4D62-8056-DFAB123C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862C2D-7083-4375-BEAD-C2CE8947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3FDCA-8E4C-46E9-BE12-6C07DFBE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BB7E47-F09E-4CF0-B9C2-5D146FCB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7D4FC8-EABD-4AA3-A4E0-0FB2FBCD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F46052-73DF-4AD6-A902-A22218E0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939A8-5A6F-48F5-9B0E-88049803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174-0E1F-4B77-AD82-34BB6587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C6C97-2813-4D40-9B42-AB2820D8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C6F53-58A7-4B9C-91B2-DDCEF0AF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2C967-2ED6-4487-AF4E-3D4571F7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26245-3F2B-4A4E-B4F7-41575D7B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7A127-6378-490E-A512-13D0A3E5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16CE9-1702-4396-A8D7-8DEB35FB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897DD-DEDC-4E45-9B82-6C8185BD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AD562-477C-4D3B-BC14-BFDA6751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DA773-4E47-47D6-A4E7-A16C450E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95FC7-C0CD-4C62-BA9F-81A4A934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49C-E8A8-48FF-8C78-10C1B5A4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5FE00-8F30-4F6E-9584-660A5CC7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BD755-8E58-4DA4-B857-4C294A72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DB032-DC7E-4DEC-BAC0-8702BEF0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E700C-5498-4BF6-9648-6849112E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27E95-7848-42FE-B499-2DAA3841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2EB69-8962-4310-9645-FA813CA2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1A006-B094-4C28-804B-ECB8352B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85599-34D1-4B54-9C7A-81B9528C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23126-E8FE-447D-A3F3-705028B7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7D2B3-1E8E-4D8C-BDE3-4E9ADBC4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CEC-67EB-4E1F-9B44-D3D993FD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05CFC-640D-4996-A46D-EB64CB6B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D978A-C7A4-4C0B-8AD2-328C037B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BD3A3-C941-4E5B-A155-7F2740B7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FE38A-EF52-4BDE-8F62-40EED2CB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1610E-9DC5-409E-8E48-2C66DEDD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EDD47-AA74-45BE-9DD1-E91BD640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BD9BC-EA95-4958-8CAB-BCFE8C92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40851-4FD9-44EC-9211-A253CA0A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389BA-082F-46EE-A360-BC2CFCD2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CE74A-F608-4B98-8B0E-D4E45FCD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913-44B9-4CCA-8EC0-B9C79A76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DC94D-D278-4B52-9FAB-9C4E6277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D9F05-6184-4ABC-A873-A30CEA82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23A6B-FD20-4952-9B28-8AC4F467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A0EFB-AF55-4AC8-9528-CC504C10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26942-3FD5-4583-B502-F73B77B7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2C4E18-22F8-4E87-AF62-07885516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8A5719-B027-478D-9A34-B686C91E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7B16B6-C61E-482C-A540-0346CFA2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59A7D2-6DD5-4C05-AD37-33151D4F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4DF408-5067-42B0-AF0F-BCE3F3B5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FEC8-5F49-4948-A209-7141C1FA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819B20-5475-43B5-8DB2-1DD5CC3A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C4B842-5DC4-475B-84FD-B71C2470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4541D0-BDD5-491B-B9BE-4BFF2984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BF3934-0F3A-40EC-9728-82944F1B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94DA75-A191-4C9C-953E-CAE46CD6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920ECD-9C84-4562-A08B-C52F4335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FB3AE9-0A9F-448C-852C-657E3D57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41AE13-EB6A-48A9-B423-DE674089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DF2062-2815-4827-A5A6-1D22535D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C593D9-671A-45C2-9467-0506BD24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EE1F-01FC-4892-8B2D-D31EFDD38F1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84FD-6FEB-4D70-88C3-98B233E4161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695F-056B-4CA1-B861-BF98F6C568E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71B4-9C49-40FD-9C37-8D6F5819D50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4939-DAC9-4299-89F7-840C3940EA6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CC7C-DD44-4ED6-8514-638E723A944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F93D-10DB-4613-B4E9-D44A38CDC79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BDBF-DB74-4AB2-83A7-7EBE1FC8C72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2C31-226B-4DEB-87A0-EF1739E2F2D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Rockwell"/>
              </a:rPr>
              <a:t>Maddy Spiegel, Nico Castanga, and Henry Lich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Picture 5" descr="http://upload.wikimedia.org/wikipedia/commons/thumb/5/5e/Water_drop_001.jpg/300px-Water_drop_001.jpg"/>
          <p:cNvPicPr/>
          <p:nvPr/>
        </p:nvPicPr>
        <p:blipFill>
          <a:blip r:embed="rId2"/>
          <a:stretch/>
        </p:blipFill>
        <p:spPr>
          <a:xfrm>
            <a:off x="1066680" y="41911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articles in liquids and gases have kinetic energy that allows them to flow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luids have the ability to conform to their containe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9" name="Picture 5" descr="http://www.chemguide.co.uk/physical/kt/sealed1.gif"/>
          <p:cNvPicPr/>
          <p:nvPr/>
        </p:nvPicPr>
        <p:blipFill>
          <a:blip r:embed="rId2"/>
          <a:stretch/>
        </p:blipFill>
        <p:spPr>
          <a:xfrm>
            <a:off x="4114800" y="3352680"/>
            <a:ext cx="335268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quids particles are very close together which gives them a definite volume, where gas volume is determined by pressur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quids as well as solids are called condensed states of matter because their volume is not affected by pressur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Vaporization that occurs when liquid particles have enough kinetic energy to overcome the attraction and become a free gas particl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ating increases kinetic energy and therefore makes evaporation faste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4" name="Picture 5" descr="http://upload.wikimedia.org/wikipedia/commons/thumb/3/37/Watervapor_cup.jpg/220px-Watervapor_cup.jpg"/>
          <p:cNvPicPr/>
          <p:nvPr/>
        </p:nvPicPr>
        <p:blipFill>
          <a:blip r:embed="rId2"/>
          <a:stretch/>
        </p:blipFill>
        <p:spPr>
          <a:xfrm>
            <a:off x="5791320" y="4572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a system at constant vapor pressure, a dynamic equilibrium exists between both the vapor and the liqui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t is at a state of equilibrium because the rate of evaporation of liquid equals the rate of condensation of vapo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9) The kinetic energy in liquids causes them to loosely flow around each other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10) If particles acquire enough Kinetic energy, they take a gaseous form. The more particles that take a gaseous form, the higher the vapor pressure is.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11) “Pressure” describes any force exerted onto matter. “Vapor Pressure” is a form pressure exerted from a gas onto a liquid below.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12)Vaporization is the conversion of a liquid into a gas. Evaporation is vaporization that isn’t caused by boiling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7:49:32Z</dcterms:created>
  <dc:creator>14hlicht</dc:creator>
  <dc:description/>
  <dc:language>en-US</dc:language>
  <cp:lastModifiedBy>14hlicht</cp:lastModifiedBy>
  <dcterms:modified xsi:type="dcterms:W3CDTF">2012-04-30T17:35:20Z</dcterms:modified>
  <cp:revision>10</cp:revision>
  <dc:subject/>
  <dc:title>The Nature of Liquids</dc:title>
</cp:coreProperties>
</file>